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2BA8-E30B-4D0A-9AE4-BF848592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081B-369B-4538-8DDB-898E638C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6951-C88B-47CB-AE2B-3D268F30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3DFE-F7A8-4BD6-8F9A-BF31B0CC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C7CE-38CB-411F-9AAF-F98CBE09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F79D-FDDC-4431-A86A-6DE73689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EFE-E819-4EEE-9F50-861CEE86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CAC5-11B4-473F-899E-5E58E0D8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B233-0106-4FC1-AAC4-A67B9F4D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DD66-6C65-4245-9682-EE9675FF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1AB0-AE7D-42AC-9447-041FF978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C070-0C63-48CF-973C-C0F46AF4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 algn="just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 algn="just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 algn="just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 algn="just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 algn="just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EEB6-62B0-4C35-A264-B7E948977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rasting Views of Dzong-ka-Ba and Shay-rap-gyel-ts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fferentiation vs. Synthesi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fferentiating Schools by way of Delineating Tene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nthesizing Schools by way of Comparing Tene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ation of Tene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iddle Way Consequence Schoo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eat Middle Way Schoo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ermining Sources that are Definitive and Sources that Require Interpret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el of Good Differentia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rasting Interpretations of the Three Natures and Three Non-natur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ther Powered Natures: Basis of Emptiness vs. Object of Neg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is of Emptines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duction and Charac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aracter and Mode of Exis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 and Objec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ject of Nega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duction and Emptine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ptiness and Mode of Exis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 and Objec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utational Natures: Existent vs. Non-exist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-24552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Existence of Imputational Natu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Non-Existence of Imputational Natu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oroughly Established Natures: Negation and Affirm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ffirming Negativ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-affirming Negativ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egating Affirma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-negating Affirma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8:16:08Z</dcterms:created>
  <dc:creator>ITS</dc:creator>
  <dc:description/>
  <dc:language>en-US</dc:language>
  <cp:lastModifiedBy>ITS</cp:lastModifiedBy>
  <dcterms:modified xsi:type="dcterms:W3CDTF">2000-02-21T22:23:24Z</dcterms:modified>
  <cp:revision>2</cp:revision>
  <dc:subject/>
  <dc:title>Contrasting Views of Dzong-ka-Ba and Shay-rap-gyel-tsen</dc:title>
</cp:coreProperties>
</file>